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60BA62-DB1B-47DE-90D8-C6A6F8DB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f. Paolo Ferragina, Univ.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1440" cy="3714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huffman codes are st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pplied in a dynamic model, we ne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each character have its own frequency distribution, or the same for all of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ED6-03AD-4E0F-B2DD-1A72B4F2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89C-28A8-4ED6-810C-DEC22E6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B40-6F7E-49F3-AFF5-B2944CC2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C62-91D0-4F43-A609-57DD93BB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D2E-D59A-40A8-A9EF-D69DC68D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9BC-EBD1-4AB1-B87D-E82348AF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537A-F147-4CBE-890B-776FF78D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74B8-B7BF-47DA-BB33-F1DA3173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9D56-6DBF-49C9-B156-B633F23E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DDA-0583-46E8-8B5E-AA35CC48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42C3-163D-47A2-9ED6-7A4F38B0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594-7DB0-46A0-B3D4-36A01E4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9F1-52A3-4D21-88D4-509D20D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769-19C6-4C3E-9149-FF37B14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3D46-DB27-40EA-B4AD-5C5AB25B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CD8-014B-4647-B5DA-2342F835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58B2-FBC1-48CF-839C-388D6130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8F0-4239-492B-B9BB-80D4821B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7B0-211C-4D2C-96E9-E4DE2F08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1CF-FFCC-475B-B444-3CC9FEC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52F-8F0D-4AC6-89BA-4FA9394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489-269F-4454-A204-1B31ECD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9D3-3239-4A75-AF87-ED02BAD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E0F-C278-4852-9587-405CBFC5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D56-77B9-4400-95FE-4FA0EF9A1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524-5470-4518-A055-2592CFEE54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ictionary-based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reaming compres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27856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ill you need to determine and sort all terms…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Can we do everything in one pass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24000" y="2924280"/>
            <a:ext cx="8280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Move-to-Front  (MTF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freq-sorting approxima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aching strateg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a compress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24000" y="5083200"/>
            <a:ext cx="828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a40508"/>
                </a:solidFill>
                <a:latin typeface="Lucida Sans"/>
              </a:rPr>
              <a:t>Run-Length-Encoding (RLE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AX compress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ve to Front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nsforms a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cha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equence into an </a:t>
            </a:r>
            <a:r>
              <a:rPr b="1" lang="en-US" sz="2600" spc="-1" strike="noStrike">
                <a:solidFill>
                  <a:srgbClr val="a40508"/>
                </a:solidFill>
                <a:latin typeface="Lucida Sans"/>
              </a:rPr>
              <a:t>integer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quence, that can then b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ar-length co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22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art with the list of symbols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L=[a,b,c,d,…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ach input symbo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utput the position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 L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v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the front of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Propert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loit 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temporal localit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and it is</a:t>
            </a:r>
            <a:r>
              <a:rPr b="0" i="1" lang="en-US" sz="2600" spc="-1" strike="noStrike">
                <a:solidFill>
                  <a:srgbClr val="3333cc"/>
                </a:solidFill>
                <a:latin typeface="Lucida Sans"/>
              </a:rPr>
              <a:t> dynamic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X = 1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3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… 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n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200" spc="-1" strike="noStrike">
                <a:solidFill>
                  <a:srgbClr val="a40508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 Huff = O(n</a:t>
            </a:r>
            <a:r>
              <a:rPr b="0" lang="en-US" sz="2100" spc="-1" strike="noStrike" baseline="30000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a40508"/>
                </a:solidFill>
                <a:latin typeface="Lucida Sans"/>
              </a:rPr>
              <a:t> log n), MTF = O(n log n) + n</a:t>
            </a:r>
            <a:r>
              <a:rPr b="0" lang="en-US" sz="2200" spc="-1" strike="noStrike" baseline="30000">
                <a:solidFill>
                  <a:srgbClr val="a40508"/>
                </a:solidFill>
                <a:latin typeface="Lucida San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64000" y="4292640"/>
            <a:ext cx="3529080" cy="360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551640" y="5157720"/>
            <a:ext cx="2592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re is a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7885080" y="5516640"/>
            <a:ext cx="79236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TF: how good is it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Encode the integers vi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coding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i)| ≤ 2 * log i + 1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u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n the front and consider the cost of encoding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639880" y="3429000"/>
                <a:ext cx="39070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739960" y="4437000"/>
                <a:ext cx="42544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*log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Text Box 6"/>
          <p:cNvSpPr/>
          <p:nvPr/>
        </p:nvSpPr>
        <p:spPr>
          <a:xfrm>
            <a:off x="301680" y="46530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y Jensen’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2165400" y="5424480"/>
                <a:ext cx="4976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AutoShape 9"/>
          <p:cNvSpPr/>
          <p:nvPr/>
        </p:nvSpPr>
        <p:spPr>
          <a:xfrm>
            <a:off x="5759280" y="0"/>
            <a:ext cx="3384720" cy="83664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No much worse than Huffma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...but it may be far bett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2585880" y="6165720"/>
                <a:ext cx="4079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tf</m:t>
                    </m:r>
                    <m:r>
                      <m:t xml:space="preserve">]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un Length Encoding  (RL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a40508"/>
                </a:solidFill>
                <a:latin typeface="Comic Sans MS"/>
              </a:rPr>
              <a:t> spatial loc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very high, th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bbbaacccca =&gt; (a,1),(b,3),(a,2),(c,4),(a,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case of binary str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just numbers and one b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perti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ploit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spatial loc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t is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dynamic c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X = 1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3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… 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n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n </a:t>
            </a:r>
            <a:r>
              <a:rPr b="0" lang="en-US" sz="2400" spc="-1" strike="noStrike">
                <a:solidFill>
                  <a:srgbClr val="a40508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Huff(X) = O(n</a:t>
            </a:r>
            <a:r>
              <a:rPr b="0" lang="en-US" sz="2400" spc="-1" strike="noStrike" baseline="30000">
                <a:solidFill>
                  <a:srgbClr val="a40508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 log n)   </a:t>
            </a: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&gt;</a:t>
            </a:r>
            <a:r>
              <a:rPr b="0" lang="en-US" sz="2400" spc="-1" strike="noStrike">
                <a:solidFill>
                  <a:srgbClr val="a40508"/>
                </a:solidFill>
                <a:latin typeface="Lucida Sans"/>
              </a:rPr>
              <a:t>  Rle(X) = O( n (1+log n)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479920" y="4929120"/>
            <a:ext cx="2592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re is a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6813720" y="528804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Burrows-Wheeler Trans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The big (unconscious) step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340000" y="1628640"/>
            <a:ext cx="4354200" cy="5229360"/>
            <a:chOff x="2340000" y="1628640"/>
            <a:chExt cx="4354200" cy="5229360"/>
          </a:xfrm>
        </p:grpSpPr>
        <p:pic>
          <p:nvPicPr>
            <p:cNvPr id="196" name="Picture 4" descr=""/>
            <p:cNvPicPr/>
            <p:nvPr/>
          </p:nvPicPr>
          <p:blipFill>
            <a:blip r:embed="rId1"/>
            <a:stretch/>
          </p:blipFill>
          <p:spPr>
            <a:xfrm>
              <a:off x="2340000" y="1692360"/>
              <a:ext cx="4214520" cy="51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5"/>
            <p:cNvSpPr/>
            <p:nvPr/>
          </p:nvSpPr>
          <p:spPr>
            <a:xfrm>
              <a:off x="2340000" y="1628640"/>
              <a:ext cx="4354200" cy="522936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5170320" y="3065400"/>
            <a:ext cx="3353040" cy="2823480"/>
            <a:chOff x="5170320" y="3065400"/>
            <a:chExt cx="3353040" cy="2823480"/>
          </a:xfrm>
        </p:grpSpPr>
        <p:sp>
          <p:nvSpPr>
            <p:cNvPr id="199" name="Rectangle 3"/>
            <p:cNvSpPr/>
            <p:nvPr/>
          </p:nvSpPr>
          <p:spPr>
            <a:xfrm>
              <a:off x="5170320" y="396540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i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pi#miss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ppi#miss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issippi#mi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ppi#miss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sissippi#m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5170320" y="30654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5170320" y="367812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i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5170320" y="337176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ss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7732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The Burrows-Wheeler Transform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34960" y="163980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et us given a tex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 = mississippi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35576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i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355760" y="2441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355760" y="2746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1355760" y="3051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5760" y="3951360"/>
            <a:ext cx="220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ppi#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pi#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pi#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#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m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355760" y="366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1355760" y="3357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ppi#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3523680" y="3432240"/>
            <a:ext cx="1453320" cy="685800"/>
            <a:chOff x="3523680" y="3432240"/>
            <a:chExt cx="1453320" cy="685800"/>
          </a:xfrm>
        </p:grpSpPr>
        <p:sp>
          <p:nvSpPr>
            <p:cNvPr id="213" name="AutoShape 17"/>
            <p:cNvSpPr/>
            <p:nvPr/>
          </p:nvSpPr>
          <p:spPr>
            <a:xfrm>
              <a:off x="3798720" y="373680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18"/>
            <p:cNvSpPr/>
            <p:nvPr/>
          </p:nvSpPr>
          <p:spPr>
            <a:xfrm>
              <a:off x="3523680" y="343224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Comic Sans MS"/>
                </a:rPr>
                <a:t>Sort the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19"/>
          <p:cNvGrpSpPr/>
          <p:nvPr/>
        </p:nvGrpSpPr>
        <p:grpSpPr>
          <a:xfrm>
            <a:off x="1284120" y="2147760"/>
            <a:ext cx="6934320" cy="3799080"/>
            <a:chOff x="1284120" y="2147760"/>
            <a:chExt cx="6934320" cy="3799080"/>
          </a:xfrm>
        </p:grpSpPr>
        <p:sp>
          <p:nvSpPr>
            <p:cNvPr id="216" name="Rectangle 20"/>
            <p:cNvSpPr/>
            <p:nvPr/>
          </p:nvSpPr>
          <p:spPr>
            <a:xfrm>
              <a:off x="5170320" y="21477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#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ssissip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Oval 21"/>
            <p:cNvSpPr/>
            <p:nvPr/>
          </p:nvSpPr>
          <p:spPr>
            <a:xfrm>
              <a:off x="1284120" y="5489640"/>
              <a:ext cx="221004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V="1">
              <a:off x="3494160" y="2441520"/>
              <a:ext cx="1752480" cy="3200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9" name="Group 23"/>
          <p:cNvGrpSpPr/>
          <p:nvPr/>
        </p:nvGrpSpPr>
        <p:grpSpPr>
          <a:xfrm>
            <a:off x="1208160" y="2455920"/>
            <a:ext cx="7162560" cy="3186000"/>
            <a:chOff x="1208160" y="2455920"/>
            <a:chExt cx="7162560" cy="3186000"/>
          </a:xfrm>
        </p:grpSpPr>
        <p:sp>
          <p:nvSpPr>
            <p:cNvPr id="220" name="Rectangle 24"/>
            <p:cNvSpPr/>
            <p:nvPr/>
          </p:nvSpPr>
          <p:spPr>
            <a:xfrm>
              <a:off x="5170320" y="2455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ississip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Oval 25"/>
            <p:cNvSpPr/>
            <p:nvPr/>
          </p:nvSpPr>
          <p:spPr>
            <a:xfrm>
              <a:off x="1208160" y="518472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 flipV="1">
              <a:off x="3417840" y="2746440"/>
              <a:ext cx="1828800" cy="26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1219320" y="2781360"/>
            <a:ext cx="7924680" cy="1890720"/>
            <a:chOff x="1219320" y="2781360"/>
            <a:chExt cx="7924680" cy="1890720"/>
          </a:xfrm>
        </p:grpSpPr>
        <p:sp>
          <p:nvSpPr>
            <p:cNvPr id="224" name="Rectangle 28"/>
            <p:cNvSpPr/>
            <p:nvPr/>
          </p:nvSpPr>
          <p:spPr>
            <a:xfrm>
              <a:off x="5181480" y="2781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s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Oval 29"/>
            <p:cNvSpPr/>
            <p:nvPr/>
          </p:nvSpPr>
          <p:spPr>
            <a:xfrm>
              <a:off x="1219320" y="4214880"/>
              <a:ext cx="220968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 flipV="1">
              <a:off x="3429000" y="3071880"/>
              <a:ext cx="1828800" cy="137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7" name="Rectangle 31"/>
          <p:cNvSpPr/>
          <p:nvPr/>
        </p:nvSpPr>
        <p:spPr>
          <a:xfrm>
            <a:off x="5182920" y="17557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7455960" y="17557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9" name="Group 33"/>
          <p:cNvGrpSpPr/>
          <p:nvPr/>
        </p:nvGrpSpPr>
        <p:grpSpPr>
          <a:xfrm>
            <a:off x="7380360" y="2060640"/>
            <a:ext cx="1468800" cy="3886200"/>
            <a:chOff x="7380360" y="2060640"/>
            <a:chExt cx="1468800" cy="3886200"/>
          </a:xfrm>
        </p:grpSpPr>
        <p:sp>
          <p:nvSpPr>
            <p:cNvPr id="230" name="Rectangle 34"/>
            <p:cNvSpPr/>
            <p:nvPr/>
          </p:nvSpPr>
          <p:spPr>
            <a:xfrm>
              <a:off x="7380360" y="2060640"/>
              <a:ext cx="457200" cy="3886200"/>
            </a:xfrm>
            <a:prstGeom prst="rect">
              <a:avLst/>
            </a:prstGeom>
            <a:noFill/>
            <a:ln w="31680">
              <a:solidFill>
                <a:srgbClr val="48f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8470440" y="38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66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Rectangle 36"/>
            <p:cNvSpPr/>
            <p:nvPr/>
          </p:nvSpPr>
          <p:spPr>
            <a:xfrm>
              <a:off x="7380360" y="3681360"/>
              <a:ext cx="457200" cy="380880"/>
            </a:xfrm>
            <a:prstGeom prst="rect">
              <a:avLst/>
            </a:prstGeom>
            <a:noFill/>
            <a:ln w="22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AutoShape 37"/>
            <p:cNvSpPr/>
            <p:nvPr/>
          </p:nvSpPr>
          <p:spPr>
            <a:xfrm>
              <a:off x="7989840" y="3813120"/>
              <a:ext cx="380880" cy="533520"/>
            </a:xfrm>
            <a:prstGeom prst="leftRight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48f026"/>
                </a:gs>
                <a:gs pos="100000">
                  <a:srgbClr val="1a570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amous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4" descr="Picture1"/>
          <p:cNvPicPr/>
          <p:nvPr/>
        </p:nvPicPr>
        <p:blipFill>
          <a:blip r:embed="rId1"/>
          <a:stretch/>
        </p:blipFill>
        <p:spPr>
          <a:xfrm>
            <a:off x="1692360" y="1628640"/>
            <a:ext cx="5472000" cy="512784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/>
          <p:cNvSpPr/>
          <p:nvPr/>
        </p:nvSpPr>
        <p:spPr>
          <a:xfrm>
            <a:off x="7380360" y="3500280"/>
            <a:ext cx="1439640" cy="20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u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long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1187280" y="2276640"/>
            <a:ext cx="6480360" cy="4392360"/>
            <a:chOff x="1187280" y="2276640"/>
            <a:chExt cx="6480360" cy="4392360"/>
          </a:xfrm>
        </p:grpSpPr>
        <p:sp>
          <p:nvSpPr>
            <p:cNvPr id="238" name="Line 6"/>
            <p:cNvSpPr/>
            <p:nvPr/>
          </p:nvSpPr>
          <p:spPr>
            <a:xfrm>
              <a:off x="1187280" y="4292640"/>
              <a:ext cx="640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2411280" y="2276640"/>
              <a:ext cx="395280" cy="201600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2411280" y="4292640"/>
              <a:ext cx="395280" cy="649080"/>
            </a:xfrm>
            <a:prstGeom prst="rect">
              <a:avLst/>
            </a:prstGeom>
            <a:solidFill>
              <a:srgbClr val="00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2411280" y="4940280"/>
              <a:ext cx="395280" cy="217440"/>
            </a:xfrm>
            <a:prstGeom prst="rect">
              <a:avLst/>
            </a:prstGeom>
            <a:solidFill>
              <a:srgbClr val="00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2411280" y="5156280"/>
              <a:ext cx="395280" cy="1512720"/>
            </a:xfrm>
            <a:prstGeom prst="rect">
              <a:avLst/>
            </a:prstGeom>
            <a:solidFill>
              <a:srgbClr val="cc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1258920" y="494172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>
              <a:off x="1258920" y="515772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Lucida Sans"/>
              </a:rPr>
              <a:t>Compressing L seems promising..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6" name="Picture 3" descr="Picture1"/>
          <p:cNvPicPr/>
          <p:nvPr/>
        </p:nvPicPr>
        <p:blipFill>
          <a:blip r:embed="rId1"/>
          <a:stretch/>
        </p:blipFill>
        <p:spPr>
          <a:xfrm>
            <a:off x="541440" y="1511280"/>
            <a:ext cx="4244760" cy="4581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5365800" y="2087640"/>
            <a:ext cx="33829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Key observati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 is locally homogeneou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5457960" y="3022560"/>
            <a:ext cx="3562200" cy="410760"/>
            <a:chOff x="5457960" y="3022560"/>
            <a:chExt cx="3562200" cy="410760"/>
          </a:xfrm>
        </p:grpSpPr>
        <p:sp>
          <p:nvSpPr>
            <p:cNvPr id="249" name="AutoShape 6"/>
            <p:cNvSpPr/>
            <p:nvPr/>
          </p:nvSpPr>
          <p:spPr>
            <a:xfrm>
              <a:off x="5457960" y="3022560"/>
              <a:ext cx="504360" cy="324360"/>
            </a:xfrm>
            <a:prstGeom prst="rightArrow">
              <a:avLst>
                <a:gd name="adj1" fmla="val 50000"/>
                <a:gd name="adj2" fmla="val 3887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5995800" y="303444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Comic Sans MS"/>
                </a:rPr>
                <a:t>L is highly compressibl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1" name="Group 8"/>
          <p:cNvGrpSpPr/>
          <p:nvPr/>
        </p:nvGrpSpPr>
        <p:grpSpPr>
          <a:xfrm>
            <a:off x="5292720" y="4103640"/>
            <a:ext cx="3527280" cy="1752480"/>
            <a:chOff x="5292720" y="4103640"/>
            <a:chExt cx="3527280" cy="1752480"/>
          </a:xfrm>
        </p:grpSpPr>
        <p:sp>
          <p:nvSpPr>
            <p:cNvPr id="252" name="Rectangle 9"/>
            <p:cNvSpPr/>
            <p:nvPr/>
          </p:nvSpPr>
          <p:spPr>
            <a:xfrm>
              <a:off x="5292720" y="4103640"/>
              <a:ext cx="352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Algorithm Bzip :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Monotype Sorts" charset="2"/>
                <a:buChar char="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Move-to-Front coding of 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5000"/>
                <a:buFont typeface="Monotype Sorts" charset="2"/>
                <a:buChar char="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un-Length coding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30000"/>
                </a:lnSpc>
                <a:spcBef>
                  <a:spcPts val="451"/>
                </a:spcBef>
                <a:buClr>
                  <a:srgbClr val="000000"/>
                </a:buClr>
                <a:buSzPct val="110000"/>
                <a:buFont typeface="Monotype Sorts" charset="2"/>
                <a:buChar char="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tatistical code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5292720" y="4103640"/>
              <a:ext cx="3527280" cy="167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Rectangle 11"/>
          <p:cNvSpPr/>
          <p:nvPr/>
        </p:nvSpPr>
        <p:spPr>
          <a:xfrm>
            <a:off x="395280" y="6237360"/>
            <a:ext cx="749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zip vs. Gzip: 20% vs. 33%, but it is slower in (de)compression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95280" y="1771560"/>
            <a:ext cx="327672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150920" y="1862280"/>
            <a:ext cx="2286000" cy="4616640"/>
            <a:chOff x="1150920" y="1862280"/>
            <a:chExt cx="2286000" cy="4616640"/>
          </a:xfrm>
        </p:grpSpPr>
        <p:grpSp>
          <p:nvGrpSpPr>
            <p:cNvPr id="257" name="Group 4"/>
            <p:cNvGrpSpPr/>
            <p:nvPr/>
          </p:nvGrpSpPr>
          <p:grpSpPr>
            <a:xfrm>
              <a:off x="1150920" y="2112840"/>
              <a:ext cx="2286000" cy="4366080"/>
              <a:chOff x="1150920" y="2112840"/>
              <a:chExt cx="2286000" cy="4366080"/>
            </a:xfrm>
          </p:grpSpPr>
          <p:grpSp>
            <p:nvGrpSpPr>
              <p:cNvPr id="258" name="Group 5"/>
              <p:cNvGrpSpPr/>
              <p:nvPr/>
            </p:nvGrpSpPr>
            <p:grpSpPr>
              <a:xfrm>
                <a:off x="1150920" y="2112840"/>
                <a:ext cx="1828800" cy="374040"/>
                <a:chOff x="1150920" y="2112840"/>
                <a:chExt cx="1828800" cy="374040"/>
              </a:xfrm>
            </p:grpSpPr>
            <p:sp>
              <p:nvSpPr>
                <p:cNvPr id="259" name="AutoShape 6"/>
                <p:cNvSpPr/>
                <p:nvPr/>
              </p:nvSpPr>
              <p:spPr>
                <a:xfrm rot="5400000">
                  <a:off x="2027160" y="1534320"/>
                  <a:ext cx="75960" cy="1828800"/>
                </a:xfrm>
                <a:custGeom>
                  <a:avLst/>
                  <a:gdLst>
                    <a:gd name="textAreaLeft" fmla="*/ 48600 w 75960"/>
                    <a:gd name="textAreaRight" fmla="*/ 76320 w 75960"/>
                    <a:gd name="textAreaTop" fmla="*/ 47520 h 1828800"/>
                    <a:gd name="textAreaBottom" fmla="*/ 1781280 h 1828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60" name="Text Box 7"/>
                <p:cNvSpPr/>
                <p:nvPr/>
              </p:nvSpPr>
              <p:spPr>
                <a:xfrm>
                  <a:off x="1496520" y="2112840"/>
                  <a:ext cx="1223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ahoma"/>
                    </a:rPr>
                    <a:t>BWT 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261" name="Text Box 8"/>
              <p:cNvSpPr/>
              <p:nvPr/>
            </p:nvSpPr>
            <p:spPr>
              <a:xfrm>
                <a:off x="1150920" y="2563200"/>
                <a:ext cx="2286000" cy="39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#mississip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#mississip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ppi#miss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ppi#mi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ississippi#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mississipp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i#miss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ppi#miss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ppi#miss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issippi#m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ppi#mis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 marL="457200" indent="-457200">
                  <a:lnSpc>
                    <a:spcPct val="95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ssissippi#m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2" name="AutoShape 9"/>
            <p:cNvSpPr/>
            <p:nvPr/>
          </p:nvSpPr>
          <p:spPr>
            <a:xfrm rot="10800000">
              <a:off x="2141280" y="1862280"/>
              <a:ext cx="1219320" cy="22824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1150920" y="41479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4" name="Text Box 11"/>
          <p:cNvSpPr/>
          <p:nvPr/>
        </p:nvSpPr>
        <p:spPr>
          <a:xfrm>
            <a:off x="1150920" y="2563920"/>
            <a:ext cx="215892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sissippi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81432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How to compute the BWT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3056040" y="2106720"/>
            <a:ext cx="395640" cy="4372560"/>
            <a:chOff x="3056040" y="2106720"/>
            <a:chExt cx="395640" cy="4372560"/>
          </a:xfrm>
        </p:grpSpPr>
        <p:sp>
          <p:nvSpPr>
            <p:cNvPr id="267" name="Text Box 14"/>
            <p:cNvSpPr/>
            <p:nvPr/>
          </p:nvSpPr>
          <p:spPr>
            <a:xfrm>
              <a:off x="3056040" y="2563560"/>
              <a:ext cx="380880" cy="391572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9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3056040" y="2563560"/>
              <a:ext cx="380880" cy="388584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3136680" y="2106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Comic Sans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17"/>
          <p:cNvGrpSpPr/>
          <p:nvPr/>
        </p:nvGrpSpPr>
        <p:grpSpPr>
          <a:xfrm>
            <a:off x="541440" y="2106720"/>
            <a:ext cx="990360" cy="4347000"/>
            <a:chOff x="541440" y="2106720"/>
            <a:chExt cx="990360" cy="4347000"/>
          </a:xfrm>
        </p:grpSpPr>
        <p:sp>
          <p:nvSpPr>
            <p:cNvPr id="271" name="Text Box 18"/>
            <p:cNvSpPr/>
            <p:nvPr/>
          </p:nvSpPr>
          <p:spPr>
            <a:xfrm>
              <a:off x="541440" y="2563920"/>
              <a:ext cx="990360" cy="38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2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72" name="Group 19"/>
            <p:cNvGrpSpPr/>
            <p:nvPr/>
          </p:nvGrpSpPr>
          <p:grpSpPr>
            <a:xfrm>
              <a:off x="541440" y="2106720"/>
              <a:ext cx="514800" cy="4343400"/>
              <a:chOff x="541440" y="2106720"/>
              <a:chExt cx="514800" cy="4343400"/>
            </a:xfrm>
          </p:grpSpPr>
          <p:sp>
            <p:nvSpPr>
              <p:cNvPr id="273" name="Rectangle 20"/>
              <p:cNvSpPr/>
              <p:nvPr/>
            </p:nvSpPr>
            <p:spPr>
              <a:xfrm>
                <a:off x="541440" y="2563920"/>
                <a:ext cx="456840" cy="38862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1"/>
              <p:cNvSpPr/>
              <p:nvPr/>
            </p:nvSpPr>
            <p:spPr>
              <a:xfrm>
                <a:off x="572400" y="2106720"/>
                <a:ext cx="48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Comic Sans MS"/>
                  </a:rPr>
                  <a:t>SA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75" name="AutoShape 22"/>
          <p:cNvSpPr/>
          <p:nvPr/>
        </p:nvSpPr>
        <p:spPr>
          <a:xfrm rot="10800000">
            <a:off x="617040" y="1877760"/>
            <a:ext cx="1219320" cy="2286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4319640" y="2637000"/>
            <a:ext cx="3311640" cy="576000"/>
          </a:xfrm>
          <a:prstGeom prst="wedgeRectCallout">
            <a:avLst>
              <a:gd name="adj1" fmla="val -80393"/>
              <a:gd name="adj2" fmla="val 841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[3] = T[ 7 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269600" y="22050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Comic Sans MS"/>
              </a:rPr>
              <a:t>We said that: L[i] precedes F[i] in 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8" name="Group 25"/>
          <p:cNvGrpSpPr/>
          <p:nvPr/>
        </p:nvGrpSpPr>
        <p:grpSpPr>
          <a:xfrm>
            <a:off x="4175280" y="3500280"/>
            <a:ext cx="4717440" cy="503280"/>
            <a:chOff x="4175280" y="3500280"/>
            <a:chExt cx="4717440" cy="503280"/>
          </a:xfrm>
        </p:grpSpPr>
        <p:sp>
          <p:nvSpPr>
            <p:cNvPr id="279" name="Text Box 26"/>
            <p:cNvSpPr/>
            <p:nvPr/>
          </p:nvSpPr>
          <p:spPr>
            <a:xfrm>
              <a:off x="4341960" y="3571560"/>
              <a:ext cx="44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Given SA and T, we have L[i]  = T[SA[i]-1]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27"/>
            <p:cNvSpPr/>
            <p:nvPr/>
          </p:nvSpPr>
          <p:spPr>
            <a:xfrm>
              <a:off x="4175280" y="3500280"/>
              <a:ext cx="4717440" cy="503280"/>
            </a:xfrm>
            <a:prstGeom prst="rect">
              <a:avLst/>
            </a:prstGeom>
            <a:noFill/>
            <a:ln w="54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’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“window”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74124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How to construct SA from T 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01800" y="2036880"/>
            <a:ext cx="186984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ss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69696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ississipp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ssissippi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436680" y="1628640"/>
            <a:ext cx="857160" cy="4347000"/>
            <a:chOff x="436680" y="1628640"/>
            <a:chExt cx="857160" cy="4347000"/>
          </a:xfrm>
        </p:grpSpPr>
        <p:sp>
          <p:nvSpPr>
            <p:cNvPr id="284" name="Text Box 5"/>
            <p:cNvSpPr/>
            <p:nvPr/>
          </p:nvSpPr>
          <p:spPr>
            <a:xfrm>
              <a:off x="436680" y="2085840"/>
              <a:ext cx="857160" cy="38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2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marL="457200" indent="-457200">
                <a:lnSpc>
                  <a:spcPct val="10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85" name="Group 6"/>
            <p:cNvGrpSpPr/>
            <p:nvPr/>
          </p:nvGrpSpPr>
          <p:grpSpPr>
            <a:xfrm>
              <a:off x="436680" y="1628640"/>
              <a:ext cx="514440" cy="4343400"/>
              <a:chOff x="436680" y="1628640"/>
              <a:chExt cx="514440" cy="4343400"/>
            </a:xfrm>
          </p:grpSpPr>
          <p:sp>
            <p:nvSpPr>
              <p:cNvPr id="286" name="Rectangle 7"/>
              <p:cNvSpPr/>
              <p:nvPr/>
            </p:nvSpPr>
            <p:spPr>
              <a:xfrm>
                <a:off x="436680" y="2085840"/>
                <a:ext cx="395280" cy="38862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Text Box 8"/>
              <p:cNvSpPr/>
              <p:nvPr/>
            </p:nvSpPr>
            <p:spPr>
              <a:xfrm>
                <a:off x="467280" y="1628640"/>
                <a:ext cx="48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Comic Sans MS"/>
                  </a:rPr>
                  <a:t>SA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88" name="Group 9"/>
          <p:cNvGrpSpPr/>
          <p:nvPr/>
        </p:nvGrpSpPr>
        <p:grpSpPr>
          <a:xfrm>
            <a:off x="3168360" y="2319480"/>
            <a:ext cx="5796000" cy="2189160"/>
            <a:chOff x="3168360" y="2319480"/>
            <a:chExt cx="5796000" cy="2189160"/>
          </a:xfrm>
        </p:grpSpPr>
        <p:pic>
          <p:nvPicPr>
            <p:cNvPr id="289" name="Picture 10" descr=""/>
            <p:cNvPicPr/>
            <p:nvPr/>
          </p:nvPicPr>
          <p:blipFill>
            <a:blip r:embed="rId1"/>
            <a:stretch/>
          </p:blipFill>
          <p:spPr>
            <a:xfrm>
              <a:off x="3168360" y="2583000"/>
              <a:ext cx="579600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1"/>
            <p:cNvSpPr/>
            <p:nvPr/>
          </p:nvSpPr>
          <p:spPr>
            <a:xfrm>
              <a:off x="3184560" y="2319480"/>
              <a:ext cx="25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5c37fb"/>
                  </a:solidFill>
                  <a:latin typeface="Comic Sans MS"/>
                </a:rPr>
                <a:t>Elegant but inefficien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AutoShape 12"/>
          <p:cNvSpPr/>
          <p:nvPr/>
        </p:nvSpPr>
        <p:spPr>
          <a:xfrm>
            <a:off x="3778200" y="5011560"/>
            <a:ext cx="4608720" cy="1081440"/>
          </a:xfrm>
          <a:prstGeom prst="roundRect">
            <a:avLst>
              <a:gd name="adj" fmla="val 16667"/>
            </a:avLst>
          </a:prstGeom>
          <a:solidFill>
            <a:srgbClr val="00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bvious inefficiencies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log n) time in the worst-ca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n log n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ache misses or I/O faul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216720" y="6165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put: T = mississippi#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378080" y="3060720"/>
            <a:ext cx="3352680" cy="2823480"/>
            <a:chOff x="1378080" y="3060720"/>
            <a:chExt cx="3352680" cy="2823480"/>
          </a:xfrm>
        </p:grpSpPr>
        <p:sp>
          <p:nvSpPr>
            <p:cNvPr id="294" name="Rectangle 3"/>
            <p:cNvSpPr/>
            <p:nvPr/>
          </p:nvSpPr>
          <p:spPr>
            <a:xfrm>
              <a:off x="1378080" y="3960720"/>
              <a:ext cx="327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1378080" y="3060720"/>
              <a:ext cx="32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1378080" y="367344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1378080" y="33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777777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777777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8" name="Rectangle 7"/>
          <p:cNvSpPr/>
          <p:nvPr/>
        </p:nvSpPr>
        <p:spPr>
          <a:xfrm>
            <a:off x="1346040" y="2114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346040" y="24224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346040" y="27273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777777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358640" y="17226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3631680" y="17226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3" name="Group 12"/>
          <p:cNvGrpSpPr/>
          <p:nvPr/>
        </p:nvGrpSpPr>
        <p:grpSpPr>
          <a:xfrm>
            <a:off x="3683160" y="4286160"/>
            <a:ext cx="4162680" cy="1295280"/>
            <a:chOff x="3683160" y="4286160"/>
            <a:chExt cx="4162680" cy="1295280"/>
          </a:xfrm>
        </p:grpSpPr>
        <p:grpSp>
          <p:nvGrpSpPr>
            <p:cNvPr id="304" name="Group 13"/>
            <p:cNvGrpSpPr/>
            <p:nvPr/>
          </p:nvGrpSpPr>
          <p:grpSpPr>
            <a:xfrm>
              <a:off x="4902480" y="4362480"/>
              <a:ext cx="2943360" cy="337320"/>
              <a:chOff x="4902480" y="4362480"/>
              <a:chExt cx="2943360" cy="337320"/>
            </a:xfrm>
          </p:grpSpPr>
          <p:sp>
            <p:nvSpPr>
              <p:cNvPr id="305" name="AutoShape 14"/>
              <p:cNvSpPr/>
              <p:nvPr/>
            </p:nvSpPr>
            <p:spPr>
              <a:xfrm>
                <a:off x="4902480" y="439092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17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Rectangle 15"/>
              <p:cNvSpPr/>
              <p:nvPr/>
            </p:nvSpPr>
            <p:spPr>
              <a:xfrm>
                <a:off x="5359320" y="4362480"/>
                <a:ext cx="24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</a:rPr>
                  <a:t>Take two equal L’s chars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3683160" y="4286160"/>
              <a:ext cx="304920" cy="1295280"/>
              <a:chOff x="3683160" y="4286160"/>
              <a:chExt cx="304920" cy="1295280"/>
            </a:xfrm>
          </p:grpSpPr>
          <p:sp>
            <p:nvSpPr>
              <p:cNvPr id="308" name="Oval 17"/>
              <p:cNvSpPr/>
              <p:nvPr/>
            </p:nvSpPr>
            <p:spPr>
              <a:xfrm>
                <a:off x="3683160" y="42861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Oval 18"/>
              <p:cNvSpPr/>
              <p:nvPr/>
            </p:nvSpPr>
            <p:spPr>
              <a:xfrm>
                <a:off x="3683160" y="5200560"/>
                <a:ext cx="304920" cy="3808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310" name="Group 19"/>
          <p:cNvGrpSpPr/>
          <p:nvPr/>
        </p:nvGrpSpPr>
        <p:grpSpPr>
          <a:xfrm>
            <a:off x="4699080" y="3565440"/>
            <a:ext cx="3962160" cy="762120"/>
            <a:chOff x="4699080" y="3565440"/>
            <a:chExt cx="3962160" cy="762120"/>
          </a:xfrm>
        </p:grpSpPr>
        <p:sp>
          <p:nvSpPr>
            <p:cNvPr id="311" name="Rectangle 20"/>
            <p:cNvSpPr/>
            <p:nvPr/>
          </p:nvSpPr>
          <p:spPr>
            <a:xfrm>
              <a:off x="4699080" y="3565440"/>
              <a:ext cx="3962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How do we map L’s onto F’s chars ?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4699080" y="3946680"/>
              <a:ext cx="3962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... Need to distinguish</a:t>
              </a:r>
              <a:r>
                <a:rPr b="0" lang="it-IT" sz="1600" spc="-1" strike="noStrike">
                  <a:solidFill>
                    <a:srgbClr val="5c37fb"/>
                  </a:solidFill>
                  <a:latin typeface="Comic Sans MS"/>
                </a:rPr>
                <a:t> </a:t>
              </a: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equal chars </a:t>
              </a:r>
              <a:r>
                <a:rPr b="0" lang="it-IT" sz="1600" spc="-1" strike="noStrike">
                  <a:solidFill>
                    <a:srgbClr val="000099"/>
                  </a:solidFill>
                  <a:latin typeface="Comic Sans MS"/>
                </a:rPr>
                <a:t>in F..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3" name="Group 22"/>
          <p:cNvGrpSpPr/>
          <p:nvPr/>
        </p:nvGrpSpPr>
        <p:grpSpPr>
          <a:xfrm>
            <a:off x="4906800" y="4718160"/>
            <a:ext cx="3298320" cy="337320"/>
            <a:chOff x="4906800" y="4718160"/>
            <a:chExt cx="3298320" cy="337320"/>
          </a:xfrm>
        </p:grpSpPr>
        <p:sp>
          <p:nvSpPr>
            <p:cNvPr id="314" name="AutoShape 23"/>
            <p:cNvSpPr/>
            <p:nvPr/>
          </p:nvSpPr>
          <p:spPr>
            <a:xfrm>
              <a:off x="4906800" y="47469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17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>
              <a:off x="5387760" y="4718160"/>
              <a:ext cx="28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Rotate rightward their row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6" name="Group 25"/>
          <p:cNvGrpSpPr/>
          <p:nvPr/>
        </p:nvGrpSpPr>
        <p:grpSpPr>
          <a:xfrm>
            <a:off x="1346040" y="4303800"/>
            <a:ext cx="2209680" cy="1211040"/>
            <a:chOff x="1346040" y="4303800"/>
            <a:chExt cx="2209680" cy="1211040"/>
          </a:xfrm>
        </p:grpSpPr>
        <p:sp>
          <p:nvSpPr>
            <p:cNvPr id="317" name="Rectangle 26"/>
            <p:cNvSpPr/>
            <p:nvPr/>
          </p:nvSpPr>
          <p:spPr>
            <a:xfrm>
              <a:off x="1346040" y="4303800"/>
              <a:ext cx="2209680" cy="3045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8" name="Rectangle 27"/>
            <p:cNvSpPr/>
            <p:nvPr/>
          </p:nvSpPr>
          <p:spPr>
            <a:xfrm>
              <a:off x="1346040" y="5209920"/>
              <a:ext cx="22096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9" name="AutoShape 28"/>
          <p:cNvSpPr/>
          <p:nvPr/>
        </p:nvSpPr>
        <p:spPr>
          <a:xfrm rot="16632600">
            <a:off x="87840" y="3218040"/>
            <a:ext cx="1830600" cy="540000"/>
          </a:xfrm>
          <a:custGeom>
            <a:avLst/>
            <a:gdLst>
              <a:gd name="textAreaLeft" fmla="*/ 385560 w 1830600"/>
              <a:gd name="textAreaRight" fmla="*/ 1167840 w 183060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00" hR="21600" stAng="10800000" swAng="5400000"/>
                <a:lnTo>
                  <a:pt x="9228" y="0"/>
                </a:lnTo>
                <a:arcTo wR="9100" hR="21600" stAng="-5400000" swAng="4154172"/>
                <a:lnTo>
                  <a:pt x="21486" y="18193"/>
                </a:lnTo>
                <a:lnTo>
                  <a:pt x="18264" y="21600"/>
                </a:lnTo>
                <a:lnTo>
                  <a:pt x="14814" y="18193"/>
                </a:lnTo>
                <a:lnTo>
                  <a:pt x="18086" y="18193"/>
                </a:lnTo>
                <a:arcTo wR="9100" hR="21600" stAng="-1245828" swAng="-4143985"/>
                <a:lnTo>
                  <a:pt x="9164" y="1"/>
                </a:lnTo>
                <a:arcTo wR="910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100" hR="21600" stAng="10800000" swAng="5400000"/>
                <a:lnTo>
                  <a:pt x="9100" y="0"/>
                </a:lnTo>
                <a:arcTo wR="9100" hR="21600" stAng="-5400000" swAng="10186"/>
                <a:lnTo>
                  <a:pt x="9164" y="1"/>
                </a:lnTo>
                <a:arcTo wR="9100" hR="21600" stAng="-5410186" swAng="-5389814"/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AutoShape 29"/>
          <p:cNvSpPr/>
          <p:nvPr/>
        </p:nvSpPr>
        <p:spPr>
          <a:xfrm rot="16441800">
            <a:off x="-249120" y="3869640"/>
            <a:ext cx="2514600" cy="533520"/>
          </a:xfrm>
          <a:custGeom>
            <a:avLst/>
            <a:gdLst>
              <a:gd name="textAreaLeft" fmla="*/ 537840 w 2514600"/>
              <a:gd name="textAreaRight" fmla="*/ 1629000 w 25146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4" hR="21600" stAng="10800000" swAng="5400000"/>
                <a:lnTo>
                  <a:pt x="9372" y="0"/>
                </a:lnTo>
                <a:arcTo wR="9244" hR="21600" stAng="-5400000" swAng="3587502"/>
                <a:lnTo>
                  <a:pt x="21326" y="16378"/>
                </a:lnTo>
                <a:lnTo>
                  <a:pt x="18551" y="21600"/>
                </a:lnTo>
                <a:lnTo>
                  <a:pt x="15228" y="16378"/>
                </a:lnTo>
                <a:lnTo>
                  <a:pt x="18213" y="16378"/>
                </a:lnTo>
                <a:arcTo wR="9244" hR="21600" stAng="-1812498" swAng="-3577316"/>
                <a:lnTo>
                  <a:pt x="9308" y="1"/>
                </a:lnTo>
                <a:arcTo wR="9244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244" hR="21600" stAng="10800000" swAng="5400000"/>
                <a:lnTo>
                  <a:pt x="9244" y="0"/>
                </a:lnTo>
                <a:arcTo wR="9244" hR="21600" stAng="-5400000" swAng="10186"/>
                <a:lnTo>
                  <a:pt x="9308" y="1"/>
                </a:lnTo>
                <a:arcTo wR="9244" hR="21600" stAng="-5410186" swAng="-5389814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1" name="Group 30"/>
          <p:cNvGrpSpPr/>
          <p:nvPr/>
        </p:nvGrpSpPr>
        <p:grpSpPr>
          <a:xfrm>
            <a:off x="5003640" y="5013360"/>
            <a:ext cx="2684880" cy="565920"/>
            <a:chOff x="5003640" y="5013360"/>
            <a:chExt cx="2684880" cy="565920"/>
          </a:xfrm>
        </p:grpSpPr>
        <p:sp>
          <p:nvSpPr>
            <p:cNvPr id="322" name="Rectangle 31"/>
            <p:cNvSpPr/>
            <p:nvPr/>
          </p:nvSpPr>
          <p:spPr>
            <a:xfrm>
              <a:off x="5473080" y="5241960"/>
              <a:ext cx="221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Comic Sans MS"/>
                </a:rPr>
                <a:t>Same relative order !!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AutoShape 32"/>
            <p:cNvSpPr/>
            <p:nvPr/>
          </p:nvSpPr>
          <p:spPr>
            <a:xfrm rot="5400000">
              <a:off x="4965480" y="5051520"/>
              <a:ext cx="457200" cy="380880"/>
            </a:xfrm>
            <a:custGeom>
              <a:avLst/>
              <a:gdLst>
                <a:gd name="textAreaLeft" fmla="*/ 0 w 457200"/>
                <a:gd name="textAreaRight" fmla="*/ 392400 w 457200"/>
                <a:gd name="textAreaTop" fmla="*/ 32688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13" y="0"/>
                  </a:moveTo>
                  <a:lnTo>
                    <a:pt x="12825" y="7200"/>
                  </a:lnTo>
                  <a:lnTo>
                    <a:pt x="15911" y="7200"/>
                  </a:lnTo>
                  <a:lnTo>
                    <a:pt x="15911" y="18563"/>
                  </a:lnTo>
                  <a:lnTo>
                    <a:pt x="0" y="18563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4" name="Rectangle 33"/>
          <p:cNvSpPr/>
          <p:nvPr/>
        </p:nvSpPr>
        <p:spPr>
          <a:xfrm>
            <a:off x="1809720" y="2125800"/>
            <a:ext cx="1655640" cy="367164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1784880" y="18381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1835280" y="2133720"/>
            <a:ext cx="1655640" cy="3671640"/>
          </a:xfrm>
          <a:prstGeom prst="rect">
            <a:avLst/>
          </a:prstGeom>
          <a:solidFill>
            <a:srgbClr val="969696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AutoShape 36"/>
          <p:cNvSpPr/>
          <p:nvPr/>
        </p:nvSpPr>
        <p:spPr>
          <a:xfrm rot="21020400">
            <a:off x="1593720" y="2414160"/>
            <a:ext cx="2089440" cy="71640"/>
          </a:xfrm>
          <a:prstGeom prst="leftArrow">
            <a:avLst>
              <a:gd name="adj1" fmla="val 50000"/>
              <a:gd name="adj2" fmla="val 729146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AutoShape 37"/>
          <p:cNvSpPr/>
          <p:nvPr/>
        </p:nvSpPr>
        <p:spPr>
          <a:xfrm flipV="1" rot="1995600">
            <a:off x="1389240" y="3596760"/>
            <a:ext cx="2593800" cy="71640"/>
          </a:xfrm>
          <a:prstGeom prst="leftArrow">
            <a:avLst>
              <a:gd name="adj1" fmla="val 50000"/>
              <a:gd name="adj2" fmla="val 905151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AutoShape 38"/>
          <p:cNvSpPr/>
          <p:nvPr/>
        </p:nvSpPr>
        <p:spPr>
          <a:xfrm flipV="1" rot="2584800">
            <a:off x="1300320" y="4586040"/>
            <a:ext cx="2808000" cy="71280"/>
          </a:xfrm>
          <a:prstGeom prst="leftArrow">
            <a:avLst>
              <a:gd name="adj1" fmla="val 50000"/>
              <a:gd name="adj2" fmla="val 98484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AutoShape 39"/>
          <p:cNvSpPr/>
          <p:nvPr/>
        </p:nvSpPr>
        <p:spPr>
          <a:xfrm flipV="1" rot="2584800">
            <a:off x="1306440" y="4285440"/>
            <a:ext cx="2772000" cy="69840"/>
          </a:xfrm>
          <a:prstGeom prst="leftArrow">
            <a:avLst>
              <a:gd name="adj1" fmla="val 50000"/>
              <a:gd name="adj2" fmla="val 99226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1280" y="716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useful tool:  L </a:t>
            </a:r>
            <a:r>
              <a:rPr b="0" lang="it-IT" sz="31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 F mapp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1371600" y="1981080"/>
            <a:ext cx="4733280" cy="2064240"/>
            <a:chOff x="1371600" y="1981080"/>
            <a:chExt cx="4733280" cy="2064240"/>
          </a:xfrm>
        </p:grpSpPr>
        <p:sp>
          <p:nvSpPr>
            <p:cNvPr id="333" name="Oval 3"/>
            <p:cNvSpPr/>
            <p:nvPr/>
          </p:nvSpPr>
          <p:spPr>
            <a:xfrm>
              <a:off x="1371600" y="1981080"/>
              <a:ext cx="304920" cy="381240"/>
            </a:xfrm>
            <a:prstGeom prst="ellipse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4418280" y="364644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 =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....           </a:t>
              </a:r>
              <a:r>
                <a:rPr b="1" lang="it-IT" sz="2000" spc="-1" strike="noStrike">
                  <a:solidFill>
                    <a:srgbClr val="333399"/>
                  </a:solidFill>
                  <a:latin typeface="Times New Roman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5" name="Rectangle 5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371600" y="22860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ississi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7" name="Group 7"/>
          <p:cNvGrpSpPr/>
          <p:nvPr/>
        </p:nvGrpSpPr>
        <p:grpSpPr>
          <a:xfrm>
            <a:off x="1403280" y="2924280"/>
            <a:ext cx="3353040" cy="2823480"/>
            <a:chOff x="1403280" y="2924280"/>
            <a:chExt cx="3353040" cy="2823480"/>
          </a:xfrm>
        </p:grpSpPr>
        <p:sp>
          <p:nvSpPr>
            <p:cNvPr id="338" name="Rectangle 8"/>
            <p:cNvSpPr/>
            <p:nvPr/>
          </p:nvSpPr>
          <p:spPr>
            <a:xfrm>
              <a:off x="1403280" y="3824280"/>
              <a:ext cx="327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sis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pi#miss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ppi#miss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ppi#m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ppi#mis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s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issippi#m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1403280" y="29242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m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is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>
              <a:off x="1403280" y="353700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m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i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#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>
              <a:off x="1403280" y="3230640"/>
              <a:ext cx="33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i  </a:t>
              </a:r>
              <a:r>
                <a:rPr b="0" lang="it-IT" sz="2000" spc="-1" strike="noStrike">
                  <a:solidFill>
                    <a:srgbClr val="c0c0c0"/>
                  </a:solidFill>
                  <a:latin typeface="Courier New"/>
                </a:rPr>
                <a:t>ssi</a:t>
              </a:r>
              <a:r>
                <a:rPr b="0" lang="en-US" sz="2000" spc="-1" strike="noStrike">
                  <a:solidFill>
                    <a:srgbClr val="c0c0c0"/>
                  </a:solidFill>
                  <a:latin typeface="Courier New"/>
                </a:rPr>
                <a:t>ssippi#</a:t>
              </a:r>
              <a:r>
                <a:rPr b="0" lang="it-IT" sz="2000" spc="-1" strike="noStrike">
                  <a:solidFill>
                    <a:srgbClr val="000000"/>
                  </a:solidFill>
                  <a:latin typeface="Courier New"/>
                </a:rPr>
                <a:t> 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The BWT is invertib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371600" y="1978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#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mississipp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1371600" y="25909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i  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ppi#</a:t>
            </a:r>
            <a:r>
              <a:rPr b="0" lang="it-IT" sz="2000" spc="-1" strike="noStrike">
                <a:solidFill>
                  <a:srgbClr val="c0c0c0"/>
                </a:solidFill>
                <a:latin typeface="Courier New"/>
              </a:rPr>
              <a:t>mi</a:t>
            </a:r>
            <a:r>
              <a:rPr b="0" lang="en-US" sz="2000" spc="-1" strike="noStrike">
                <a:solidFill>
                  <a:srgbClr val="c0c0c0"/>
                </a:solidFill>
                <a:latin typeface="Courier New"/>
              </a:rPr>
              <a:t>ssi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1383840" y="1585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657240" y="15858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1835280" y="1989000"/>
            <a:ext cx="1655640" cy="3672000"/>
          </a:xfrm>
          <a:prstGeom prst="rect">
            <a:avLst/>
          </a:prstGeom>
          <a:noFill/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1810080" y="1701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c0c0"/>
                </a:solidFill>
                <a:latin typeface="Comic Sans MS"/>
              </a:rPr>
              <a:t>unknow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9" name="Group 19"/>
          <p:cNvGrpSpPr/>
          <p:nvPr/>
        </p:nvGrpSpPr>
        <p:grpSpPr>
          <a:xfrm>
            <a:off x="4147560" y="1989000"/>
            <a:ext cx="4744800" cy="1172880"/>
            <a:chOff x="4147560" y="1989000"/>
            <a:chExt cx="4744800" cy="1172880"/>
          </a:xfrm>
        </p:grpSpPr>
        <p:sp>
          <p:nvSpPr>
            <p:cNvPr id="350" name="Rectangle 20"/>
            <p:cNvSpPr/>
            <p:nvPr/>
          </p:nvSpPr>
          <p:spPr>
            <a:xfrm>
              <a:off x="4543560" y="2349360"/>
              <a:ext cx="434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. LF-array maps L’s to F’s char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>
              <a:off x="4543560" y="2781000"/>
              <a:ext cx="4146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. L[ i ]  precedes F[ i ] in T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22"/>
            <p:cNvSpPr/>
            <p:nvPr/>
          </p:nvSpPr>
          <p:spPr>
            <a:xfrm>
              <a:off x="4147560" y="1989000"/>
              <a:ext cx="205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3300"/>
                  </a:solidFill>
                  <a:latin typeface="Comic Sans MS"/>
                </a:rPr>
                <a:t>Two key properties: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53" name="Rectangle 23"/>
          <p:cNvSpPr/>
          <p:nvPr/>
        </p:nvSpPr>
        <p:spPr>
          <a:xfrm>
            <a:off x="4231800" y="335772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Comic Sans MS"/>
              </a:rPr>
              <a:t>Reconstruct T backward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373040" y="2276640"/>
            <a:ext cx="304920" cy="38088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5" name="Group 25"/>
          <p:cNvGrpSpPr/>
          <p:nvPr/>
        </p:nvGrpSpPr>
        <p:grpSpPr>
          <a:xfrm>
            <a:off x="3635280" y="1989000"/>
            <a:ext cx="2260800" cy="2046960"/>
            <a:chOff x="3635280" y="1989000"/>
            <a:chExt cx="2260800" cy="2046960"/>
          </a:xfrm>
        </p:grpSpPr>
        <p:sp>
          <p:nvSpPr>
            <p:cNvPr id="356" name="Oval 26"/>
            <p:cNvSpPr/>
            <p:nvPr/>
          </p:nvSpPr>
          <p:spPr>
            <a:xfrm>
              <a:off x="3635280" y="198900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Rectangle 27"/>
            <p:cNvSpPr/>
            <p:nvPr/>
          </p:nvSpPr>
          <p:spPr>
            <a:xfrm>
              <a:off x="5649840" y="363708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5c37fb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58" name="Group 28"/>
          <p:cNvGrpSpPr/>
          <p:nvPr/>
        </p:nvGrpSpPr>
        <p:grpSpPr>
          <a:xfrm>
            <a:off x="3635280" y="2276640"/>
            <a:ext cx="2204280" cy="1759320"/>
            <a:chOff x="3635280" y="2276640"/>
            <a:chExt cx="2204280" cy="1759320"/>
          </a:xfrm>
        </p:grpSpPr>
        <p:sp>
          <p:nvSpPr>
            <p:cNvPr id="359" name="Oval 29"/>
            <p:cNvSpPr/>
            <p:nvPr/>
          </p:nvSpPr>
          <p:spPr>
            <a:xfrm>
              <a:off x="3635280" y="2276640"/>
              <a:ext cx="304920" cy="38088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Rectangle 30"/>
            <p:cNvSpPr/>
            <p:nvPr/>
          </p:nvSpPr>
          <p:spPr>
            <a:xfrm>
              <a:off x="550188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33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1" name="Oval 31"/>
          <p:cNvSpPr/>
          <p:nvPr/>
        </p:nvSpPr>
        <p:spPr>
          <a:xfrm>
            <a:off x="1403280" y="3860640"/>
            <a:ext cx="304920" cy="3812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2" name="Group 32"/>
          <p:cNvGrpSpPr/>
          <p:nvPr/>
        </p:nvGrpSpPr>
        <p:grpSpPr>
          <a:xfrm>
            <a:off x="3708360" y="3637080"/>
            <a:ext cx="1986480" cy="604800"/>
            <a:chOff x="3708360" y="3637080"/>
            <a:chExt cx="1986480" cy="604800"/>
          </a:xfrm>
        </p:grpSpPr>
        <p:sp>
          <p:nvSpPr>
            <p:cNvPr id="363" name="Oval 33"/>
            <p:cNvSpPr/>
            <p:nvPr/>
          </p:nvSpPr>
          <p:spPr>
            <a:xfrm>
              <a:off x="3708360" y="3860640"/>
              <a:ext cx="304920" cy="381240"/>
            </a:xfrm>
            <a:prstGeom prst="ellipse">
              <a:avLst/>
            </a:prstGeom>
            <a:noFill/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ctangle 34"/>
            <p:cNvSpPr/>
            <p:nvPr/>
          </p:nvSpPr>
          <p:spPr>
            <a:xfrm>
              <a:off x="5357160" y="36370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5" name="Oval 35"/>
          <p:cNvSpPr/>
          <p:nvPr/>
        </p:nvSpPr>
        <p:spPr>
          <a:xfrm>
            <a:off x="1403280" y="4149720"/>
            <a:ext cx="304920" cy="380880"/>
          </a:xfrm>
          <a:prstGeom prst="ellipse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6" name="Group 36"/>
          <p:cNvGrpSpPr/>
          <p:nvPr/>
        </p:nvGrpSpPr>
        <p:grpSpPr>
          <a:xfrm>
            <a:off x="3708360" y="3659040"/>
            <a:ext cx="1811520" cy="871560"/>
            <a:chOff x="3708360" y="3659040"/>
            <a:chExt cx="1811520" cy="871560"/>
          </a:xfrm>
        </p:grpSpPr>
        <p:sp>
          <p:nvSpPr>
            <p:cNvPr id="367" name="Rectangle 37"/>
            <p:cNvSpPr/>
            <p:nvPr/>
          </p:nvSpPr>
          <p:spPr>
            <a:xfrm>
              <a:off x="5273640" y="365904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Oval 38"/>
            <p:cNvSpPr/>
            <p:nvPr/>
          </p:nvSpPr>
          <p:spPr>
            <a:xfrm>
              <a:off x="3708360" y="4149720"/>
              <a:ext cx="304920" cy="380880"/>
            </a:xfrm>
            <a:prstGeom prst="ellipse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9" name="Rectangle 39"/>
          <p:cNvSpPr/>
          <p:nvPr/>
        </p:nvSpPr>
        <p:spPr>
          <a:xfrm>
            <a:off x="1332000" y="1989000"/>
            <a:ext cx="503280" cy="36720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0" name="Group 40"/>
          <p:cNvGrpSpPr/>
          <p:nvPr/>
        </p:nvGrpSpPr>
        <p:grpSpPr>
          <a:xfrm>
            <a:off x="6084720" y="4365720"/>
            <a:ext cx="2735280" cy="2305080"/>
            <a:chOff x="6084720" y="4365720"/>
            <a:chExt cx="2735280" cy="2305080"/>
          </a:xfrm>
        </p:grpSpPr>
        <p:sp>
          <p:nvSpPr>
            <p:cNvPr id="371" name="Rectangle 41"/>
            <p:cNvSpPr/>
            <p:nvPr/>
          </p:nvSpPr>
          <p:spPr>
            <a:xfrm>
              <a:off x="6084720" y="4365720"/>
              <a:ext cx="2735280" cy="230508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6156360" y="4510080"/>
              <a:ext cx="2592360" cy="20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000099"/>
                  </a:solidFill>
                  <a:uFillTx/>
                  <a:latin typeface="Verdana"/>
                </a:rPr>
                <a:t>InvertBWT</a:t>
              </a:r>
              <a:r>
                <a:rPr b="0" lang="it-IT" sz="1800" spc="-1" strike="noStrike">
                  <a:solidFill>
                    <a:srgbClr val="000099"/>
                  </a:solidFill>
                  <a:latin typeface="Verdana"/>
                </a:rPr>
                <a:t>(L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Compute LF[0,n-1]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r = 0; i = n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while (i&gt;0) {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T[i] = L[r]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r = LF[r]; i--;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16360" y="4865760"/>
            <a:ext cx="431640" cy="43164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192320" y="48657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LE0 =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413080" y="4073400"/>
            <a:ext cx="1008000" cy="432000"/>
          </a:xfrm>
          <a:prstGeom prst="rect">
            <a:avLst/>
          </a:prstGeom>
          <a:solidFill>
            <a:srgbClr val="ffcf01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n encod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634320" y="212868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 = mississippimississippimississipp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21720" y="270504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 = ipppssssssmmmii</a:t>
            </a:r>
            <a:r>
              <a:rPr b="0" lang="it-IT" sz="2400" spc="-1" strike="noStrike">
                <a:solidFill>
                  <a:srgbClr val="ff3300"/>
                </a:solidFill>
                <a:latin typeface="Lucida Sans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ppiiissssssiiiii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798480" y="342576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tf = 0200300000300302003003000001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0" name="Group 9"/>
          <p:cNvGrpSpPr/>
          <p:nvPr/>
        </p:nvGrpSpPr>
        <p:grpSpPr>
          <a:xfrm>
            <a:off x="6372360" y="2128680"/>
            <a:ext cx="2700000" cy="1223640"/>
            <a:chOff x="6372360" y="2128680"/>
            <a:chExt cx="2700000" cy="1223640"/>
          </a:xfrm>
        </p:grpSpPr>
        <p:sp>
          <p:nvSpPr>
            <p:cNvPr id="381" name="AutoShape 10"/>
            <p:cNvSpPr/>
            <p:nvPr/>
          </p:nvSpPr>
          <p:spPr>
            <a:xfrm>
              <a:off x="6372360" y="2128680"/>
              <a:ext cx="2700000" cy="122364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6825600" y="279936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Mtf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= </a:t>
              </a:r>
              <a:r>
                <a:rPr b="0" lang="it-IT" sz="2000" spc="-1" strike="noStrike">
                  <a:solidFill>
                    <a:srgbClr val="000099"/>
                  </a:solidFill>
                  <a:latin typeface="Lucida Sans"/>
                </a:rPr>
                <a:t>[i,m,p,s]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6849360" y="23022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# at 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4" name="Text Box 13"/>
          <p:cNvSpPr/>
          <p:nvPr/>
        </p:nvSpPr>
        <p:spPr>
          <a:xfrm>
            <a:off x="362880" y="5757840"/>
            <a:ext cx="821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zip2-output = Arithmetic/Huffman on 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</a:t>
            </a:r>
            <a:r>
              <a:rPr b="1" lang="it-IT" sz="2400" spc="-1" strike="noStrike">
                <a:solidFill>
                  <a:srgbClr val="cc0000"/>
                </a:solidFill>
                <a:latin typeface="Symbol"/>
                <a:ea typeface="Symbol"/>
              </a:rPr>
              <a:t>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|+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symbols..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... plus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6), plus the original Mtf-list (i,m,p,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833400" y="407340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tf = 0300400000400403004004000002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133200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1476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1692360" y="3065400"/>
            <a:ext cx="360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4068720" y="3065400"/>
            <a:ext cx="863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0" name="Group 19"/>
          <p:cNvGrpSpPr/>
          <p:nvPr/>
        </p:nvGrpSpPr>
        <p:grpSpPr>
          <a:xfrm>
            <a:off x="6588000" y="4433760"/>
            <a:ext cx="2484360" cy="776520"/>
            <a:chOff x="6588000" y="4433760"/>
            <a:chExt cx="2484360" cy="776520"/>
          </a:xfrm>
        </p:grpSpPr>
        <p:sp>
          <p:nvSpPr>
            <p:cNvPr id="391" name="AutoShape 20"/>
            <p:cNvSpPr/>
            <p:nvPr/>
          </p:nvSpPr>
          <p:spPr>
            <a:xfrm>
              <a:off x="6588000" y="4433760"/>
              <a:ext cx="2484360" cy="776520"/>
            </a:xfrm>
            <a:prstGeom prst="flowChartPreparation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Text Box 21"/>
            <p:cNvSpPr/>
            <p:nvPr/>
          </p:nvSpPr>
          <p:spPr>
            <a:xfrm>
              <a:off x="7177680" y="4593600"/>
              <a:ext cx="1190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lphab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|+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3" name="Line 22"/>
          <p:cNvSpPr/>
          <p:nvPr/>
        </p:nvSpPr>
        <p:spPr>
          <a:xfrm>
            <a:off x="2844720" y="4505400"/>
            <a:ext cx="216000" cy="360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2958480" y="45054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Bin(6)=110, Wheeler’s cod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Line 24"/>
          <p:cNvSpPr/>
          <p:nvPr/>
        </p:nvSpPr>
        <p:spPr>
          <a:xfrm>
            <a:off x="4284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Line 25"/>
          <p:cNvSpPr/>
          <p:nvPr/>
        </p:nvSpPr>
        <p:spPr>
          <a:xfrm>
            <a:off x="4500720" y="3065400"/>
            <a:ext cx="8650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You find this in your Linux distribution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611280" y="1528920"/>
            <a:ext cx="828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and 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 &gt; d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(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y copy starting at the curs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pel-Ziv Algorith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“dictionary” of recently-seen string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fferences ar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he dictionary is stor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it is extend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it is index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elements are remo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LZ-algos are asymptotically optimal, i.e. their compression ratio goes to H(S) for n 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</a:t>
            </a:r>
            <a:r>
              <a:rPr b="0" lang="en-US" sz="2600" spc="-1" strike="noStrike">
                <a:solidFill>
                  <a:srgbClr val="cc0000"/>
                </a:solidFill>
                <a:latin typeface="Lucida Sans"/>
              </a:rPr>
              <a:t>  !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84720" y="2421000"/>
            <a:ext cx="2808360" cy="718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explici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requency esti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Z77 Optimizations used b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gzip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ZSS: Output one of the following forma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, position, length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,cha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ypically uses the second format if length &lt; 3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Rectangle 73"/>
          <p:cNvSpPr/>
          <p:nvPr/>
        </p:nvSpPr>
        <p:spPr>
          <a:xfrm>
            <a:off x="395280" y="3270600"/>
            <a:ext cx="813744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Special greed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possibly use shorter match so that next match is bet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Hash 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 speed-up searches on tripl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ripl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re coded with Huffman’s cod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Algorithmic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ome special compresso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Comic Sans MS"/>
              </a:rPr>
              <a:t>Spatial vs Temporal Localit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 for integer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&lt;000,1001&gt;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5"/>
          <p:cNvSpPr/>
          <p:nvPr/>
        </p:nvSpPr>
        <p:spPr>
          <a:xfrm>
            <a:off x="2855520" y="25653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ngth-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Line 4"/>
          <p:cNvSpPr/>
          <p:nvPr/>
        </p:nvSpPr>
        <p:spPr>
          <a:xfrm flipV="1">
            <a:off x="2521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Line 5"/>
          <p:cNvSpPr/>
          <p:nvPr/>
        </p:nvSpPr>
        <p:spPr>
          <a:xfrm flipV="1">
            <a:off x="3664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442584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7093080" y="3573360"/>
            <a:ext cx="0" cy="152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2056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93328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796920" y="481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677920" y="4741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7468920" y="4741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</cp:lastModifiedBy>
  <cp:lastPrinted>2009-04-22T19:24:48Z</cp:lastPrinted>
  <dcterms:modified xsi:type="dcterms:W3CDTF">2009-10-12T16:05:34Z</dcterms:modified>
  <cp:revision>1161</cp:revision>
  <dc:subject/>
  <dc:title>Web Algorithmics</dc:title>
</cp:coreProperties>
</file>